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8AE8-1E6E-4D49-969A-D6F4A2E60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186E-3BE9-48FB-B117-54A2F39D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DA6B-DBF3-4E0D-9314-1120119E8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C103-F9C1-4748-9D2C-F2F7BBCD1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8C76-C44C-469A-B95A-31AF410E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F24F-97EC-41F9-B1B4-1BEB86F2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E4D3-49C1-4C05-AB3D-83D81FBA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6B33-CB12-49BD-9A86-B324B25B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7AA6-3F53-41B7-89FE-87ECAB79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8735-667C-4F69-9BAD-7DACD078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DBB9-4B48-4C86-89A8-652D4CD8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B694-DCEF-4B9D-9FE8-43426828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7D55-7839-445D-A829-5C4957FA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5911-6D32-46C8-BA86-E5CD5DFC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62C2-9D80-4935-9AB9-C79C9658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0702-25CB-4847-8A0D-E9EE05B9A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2E9A-86EA-454F-95F8-469A208FA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8B04-E589-4CE4-A9A0-20172BDF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84A4-AC61-4D77-9C09-7E18648D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E06A-A0C4-4B61-8E80-038632D5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684B-63AA-4603-9531-01546383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E4A1-F038-4A70-806D-44049A43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379A-8ECC-478E-BEB4-176AA08C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62D7-150E-4807-99BF-99C79EF1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2394-7F98-4FC5-82FD-2DD2F88C64F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7C24-22A3-4266-AF4C-944A9E4E797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irednewyork.com/bridges/brooklyn_bridge/images/brooklyn_manhattan_bridge_26may02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netours.com/New_Orleans/images/FQ/Brbn/Bourbon_Orleans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inetours.com/New_Orleans/images/FQ/FM/French_Mkt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alt Whitman and Emily Dickins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he Romantic Poet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00520" y="2460600"/>
          <a:ext cx="1251000" cy="2209680"/>
        </p:xfrm>
        <a:graphic>
          <a:graphicData uri="http://schemas.openxmlformats.org/drawingml/2006/table">
            <a:tbl>
              <a:tblPr/>
              <a:tblGrid>
                <a:gridCol w="1251000"/>
              </a:tblGrid>
              <a:tr h="249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03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              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8" name="" descr="Walt Whitman"/>
          <p:cNvPicPr/>
          <p:nvPr/>
        </p:nvPicPr>
        <p:blipFill>
          <a:blip r:embed="rId1"/>
          <a:stretch/>
        </p:blipFill>
        <p:spPr>
          <a:xfrm>
            <a:off x="6019920" y="1295280"/>
            <a:ext cx="3124080" cy="2971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2514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Emily Dickins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1830-1886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2920" y="685440"/>
            <a:ext cx="347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We never know how high we are</a:t>
            </a:r>
            <a:br>
              <a:rPr sz="1800"/>
            </a:b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Till we are called to rise;</a:t>
            </a:r>
            <a:br>
              <a:rPr sz="1800"/>
            </a:b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And then, if we are true to plan,</a:t>
            </a:r>
            <a:br>
              <a:rPr sz="1800"/>
            </a:b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Our statures touch the skies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09480" y="518148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Hope is a thing with feathers</a:t>
            </a:r>
            <a:br>
              <a:rPr sz="1800"/>
            </a:b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That perches in the soul,</a:t>
            </a:r>
            <a:br>
              <a:rPr sz="1800"/>
            </a:b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And sings the tune without words</a:t>
            </a:r>
            <a:br>
              <a:rPr sz="1800"/>
            </a:b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And never stops at all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ckgrou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orn into a wealthy New England family and had a happy childhood.  Everyone assumed she would grow up to marry and have a famil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t 24, her father took her on a business trip to separate Emily from a drastic situation…she had fallen in love with a married man she could never marr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3240" y="6233040"/>
            <a:ext cx="32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Beauty is not caused. It is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60480" y="60840"/>
            <a:ext cx="728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Behavior is what a man does, not what he thinks, feels, or believes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ckgrou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3301560"/>
            <a:ext cx="7693200" cy="27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ronically, while on the trip, she fell in love with another married man, Charles Wadsworth, a Presbyterian minister.  She was once again separated from the man she lov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e then withdrew from all social life except involving her famil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12240" y="-15120"/>
            <a:ext cx="815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Dogs are better than human beings because they know but do not tell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19920" y="609480"/>
            <a:ext cx="2863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ily alone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thin a few years, Emily was dressing in all white and lived in total seclus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r only activities included writing her poems and household chor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" descr="[Dickinson Homestead]"/>
          <p:cNvPicPr/>
          <p:nvPr/>
        </p:nvPicPr>
        <p:blipFill>
          <a:blip r:embed="rId1"/>
          <a:stretch/>
        </p:blipFill>
        <p:spPr>
          <a:xfrm>
            <a:off x="0" y="4210200"/>
            <a:ext cx="4010040" cy="2647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991200" y="0"/>
            <a:ext cx="21528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                     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ily’s Poet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738520"/>
            <a:ext cx="7693200" cy="33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e only printed a handful of her poems during her lifetim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ever, she made sure that she left bundles of her poems to be found after her death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amily and friends edited her poems and published them in numerous installm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r poems were brief and contained brilliant metapho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862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             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ily’s Sty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738520"/>
            <a:ext cx="7693200" cy="33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s unconventional punctuation and capitaliz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st of her lines and stanzas are very brie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st of her poetry is writing in quatrai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ually, only the second and fourth lines in her quatrains rhym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e often uses slant or partial rhym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e has a tendency to use figurative language to convey her ide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24080" cy="2590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705720" y="0"/>
            <a:ext cx="24382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y are considered to be the two greatest poets of the nineteenth century! </a:t>
            </a:r>
            <a:br>
              <a:rPr sz="3600"/>
            </a:br>
            <a:br>
              <a:rPr sz="2400"/>
            </a:b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Be curious, not judgmental.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Whitman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If I can stop one heart from breaking,</a:t>
            </a:r>
            <a:br>
              <a:rPr sz="2400"/>
            </a:b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I shall not live in vain: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Dickinson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495680" y="2666880"/>
            <a:ext cx="763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alt Whitm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                  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1819-1892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Walt Whitman"/>
          <p:cNvPicPr/>
          <p:nvPr/>
        </p:nvPicPr>
        <p:blipFill>
          <a:blip r:embed="rId1"/>
          <a:stretch/>
        </p:blipFill>
        <p:spPr>
          <a:xfrm>
            <a:off x="5334120" y="2133720"/>
            <a:ext cx="361944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kgroun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800440"/>
            <a:ext cx="76932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He came from a large family (seven brothers and sisters)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Had the opportunity to live in both a country setting and the city of New York (Brooklyn)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He attended school until he was eleven, then worked as a printer’s assistant and a teacher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14668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44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                                               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Brooklyn Brid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0"/>
            <a:ext cx="4419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ckgrou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Worked in journalism until the age of thirty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Moved to New Orleans to continue journalism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Eventually returned to New York as a journalist and part-time carpenter/contractor.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He kept journals and diaries that became the basis for much of his literary work.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Bourbon Orleans Hotel pic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0"/>
            <a:ext cx="2266920" cy="1828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French Market entrance pictu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0"/>
            <a:ext cx="25909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et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sed on cadence, which is the long, easy sweep of sound that echoes the Bible and the speeches or orators and preache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dence was the base for free verse, which is poetry without rhyme or me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1855, he published his most important collection of poetry,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Leaves of Gras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He revised it nine times before his death in 1892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6095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alt’s Sty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Frequently uses catalogs– the piling up of images or concrete details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Example from “Song of Myself”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i="1" lang="en-US" sz="3000" spc="-1" strike="noStrike">
                <a:solidFill>
                  <a:srgbClr val="003366"/>
                </a:solidFill>
                <a:latin typeface="Arial"/>
              </a:rPr>
              <a:t>My tongue, every atom of my blood, formed from this soil, this air/Born here of parents born here from parents the same, and their parents the same” 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(lines 6-7)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26480" y="-360"/>
            <a:ext cx="661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O captain! my captain! our fearful trip is done;</a:t>
            </a:r>
            <a:br>
              <a:rPr sz="1800"/>
            </a:b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The ship has weathered every rack, the prize we sought is won;</a:t>
            </a:r>
            <a:br>
              <a:rPr sz="1800"/>
            </a:b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The port is near, the bells I hear, the people all exulting,</a:t>
            </a:r>
            <a:br>
              <a:rPr sz="1800"/>
            </a:b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While follow eyes the stead keel, the vessel grim and daring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y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s catalogs here represent the spiritual unity among all forms of be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 frequently uses parallelism—the repeated use of phrases, clauses, or sentences that are similar in structure or mean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of parallelism helps to create a sense of unity within his poetry and it also provides a structure, creates a rhythm, and emphasizes important ide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y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Uses free verse– verse that has irregular meter and line length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hitman was the first American poet to use free vers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His use of free verse allowed him to express himself without restrain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13:45:11Z</dcterms:created>
  <dc:creator>PBCSD</dc:creator>
  <dc:description/>
  <dc:language>en-US</dc:language>
  <cp:lastModifiedBy>PBCSD</cp:lastModifiedBy>
  <dcterms:modified xsi:type="dcterms:W3CDTF">2007-11-07T14:37:34Z</dcterms:modified>
  <cp:revision>31</cp:revision>
  <dc:subject/>
  <dc:title>Walt Whitman and Emily Dickinson</dc:title>
</cp:coreProperties>
</file>